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8F0-5510-4933-9859-0F37D98A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90E-60D5-47FD-B617-F4BE327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320-E531-4C52-AFA9-E9711254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B39-D39A-4130-8D7F-0156953F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617-24B0-4045-8123-D02C8574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DCC-7848-4496-8CC6-1A49A21F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B8B-DFD6-4AA5-B85A-4BD7238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6A1-F9CD-43C1-902E-420800A3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793-BA2F-4E21-88FA-2908AFC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C29-38F1-455A-B286-A116D04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894-51F6-45C7-84FD-3C2A81E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762-DE47-4D1A-834D-C9F124D6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1862-FB35-47B0-8874-D4DE79180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2:44Z</dcterms:created>
  <dc:creator>INVES-S6600A</dc:creator>
  <dc:description/>
  <dc:language>en-US</dc:language>
  <cp:lastModifiedBy>INVES-S6600A</cp:lastModifiedBy>
  <dcterms:modified xsi:type="dcterms:W3CDTF">2010-11-23T14:03:04Z</dcterms:modified>
  <cp:revision>1</cp:revision>
  <dc:subject/>
  <dc:title>Diapositiva 1</dc:title>
</cp:coreProperties>
</file>